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FD1B7-B233-44A9-A9A1-616E12AD0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928B6-C9CD-41B5-BB46-DF5D54338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C0ADB-4A77-414B-851F-E3B6EDE72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E8C09-A5FD-46A2-AF00-2D4257DC7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AB317-D354-4D47-8BDB-3E62CE3BC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BBFDE-DC20-440F-89C1-B516DA9D5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4C602-E3D4-4DBE-9D9A-B9D193C47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FBBF6-17FF-452E-9A98-B6B608AF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68D7A-0ED0-4B23-9BA1-E2477EDB6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97F53-CC9B-4759-AA8F-27033E8D2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59C9-E7FE-474F-8F33-AEA41A0F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B5E00-2C3F-4C44-86FF-499F35EF6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m 10" descr="interno2.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Calibri"/>
              </a:rPr>
              <a:t>Click to edit the title text format</a:t>
            </a:r>
            <a:endParaRPr b="0" lang="en-US" sz="4400" spc="-1" strike="noStrike">
              <a:solidFill>
                <a:srgbClr val="0066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DD10-72F6-4AC6-8B3E-D1D7412E47E3}" type="datetime">
              <a:rPr b="0" lang="pt-BR" sz="1200" spc="-1" strike="noStrike">
                <a:solidFill>
                  <a:srgbClr val="898989"/>
                </a:solidFill>
                <a:latin typeface="Calibri"/>
              </a:rPr>
              <a:t>30/07/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Grupo Latinoamericano de Emisores de Normas de Información Financeira - GLENIF</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A05D-AC30-44B1-873F-C38C7DB04497}"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
        <p:nvSpPr>
          <p:cNvPr id="6" name="Retângulo com Canto Diagonal Aparado 8"/>
          <p:cNvSpPr/>
          <p:nvPr/>
        </p:nvSpPr>
        <p:spPr>
          <a:xfrm>
            <a:off x="250920" y="1268280"/>
            <a:ext cx="8642160" cy="5589720"/>
          </a:xfrm>
          <a:custGeom>
            <a:avLst/>
            <a:gdLst>
              <a:gd name="textAreaLeft" fmla="*/ 465840 w 8642160"/>
              <a:gd name="textAreaRight" fmla="*/ 8176320 w 8642160"/>
              <a:gd name="textAreaTop" fmla="*/ 465840 h 5589720"/>
              <a:gd name="textAreaBottom" fmla="*/ 5123880 h 5589720"/>
            </a:gdLst>
            <a:ahLst/>
            <a:rect l="textAreaLeft" t="textAreaTop" r="textAreaRight" b="textAreaBottom"/>
            <a:pathLst>
              <a:path w="8640960" h="5589240">
                <a:moveTo>
                  <a:pt x="0" y="0"/>
                </a:moveTo>
                <a:lnTo>
                  <a:pt x="7709401" y="0"/>
                </a:lnTo>
                <a:lnTo>
                  <a:pt x="8640960" y="931559"/>
                </a:lnTo>
                <a:lnTo>
                  <a:pt x="8640960" y="5589240"/>
                </a:lnTo>
                <a:lnTo>
                  <a:pt x="931559" y="5589240"/>
                </a:lnTo>
                <a:lnTo>
                  <a:pt x="0" y="4657681"/>
                </a:lnTo>
                <a:lnTo>
                  <a:pt x="0" y="0"/>
                </a:lnTo>
                <a:close/>
              </a:path>
            </a:pathLst>
          </a:custGeom>
          <a:solidFill>
            <a:srgbClr val="f2f2f2"/>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m 6" descr="capa2.jpg"/>
          <p:cNvPicPr/>
          <p:nvPr/>
        </p:nvPicPr>
        <p:blipFill>
          <a:blip r:embed="rId1"/>
          <a:stretch/>
        </p:blipFill>
        <p:spPr>
          <a:xfrm>
            <a:off x="-90360" y="-3240"/>
            <a:ext cx="9144000" cy="6858000"/>
          </a:xfrm>
          <a:prstGeom prst="rect">
            <a:avLst/>
          </a:prstGeom>
          <a:ln w="0">
            <a:noFill/>
          </a:ln>
        </p:spPr>
      </p:pic>
      <p:sp>
        <p:nvSpPr>
          <p:cNvPr id="44" name="Retângulo 5"/>
          <p:cNvSpPr/>
          <p:nvPr/>
        </p:nvSpPr>
        <p:spPr>
          <a:xfrm>
            <a:off x="0" y="5877000"/>
            <a:ext cx="9144000" cy="9810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4"/>
          <p:cNvSpPr/>
          <p:nvPr/>
        </p:nvSpPr>
        <p:spPr>
          <a:xfrm>
            <a:off x="687240" y="115920"/>
            <a:ext cx="7772400" cy="237636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4f6228"/>
                </a:solidFill>
                <a:latin typeface="Arial"/>
              </a:rPr>
              <a:t>Reconocimiento de activos por impuestos diferidos por pérdidas no realizad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f6228"/>
                </a:solidFill>
                <a:latin typeface="Arial"/>
              </a:rPr>
              <a:t>Proyecto de Norma PN/2014/3</a:t>
            </a:r>
            <a:endParaRPr b="0" lang="en-US" sz="3200" spc="-1" strike="noStrike">
              <a:solidFill>
                <a:srgbClr val="000000"/>
              </a:solidFill>
              <a:latin typeface="Arial"/>
            </a:endParaRPr>
          </a:p>
        </p:txBody>
      </p:sp>
      <p:sp>
        <p:nvSpPr>
          <p:cNvPr id="46" name="Rectangle 14"/>
          <p:cNvSpPr/>
          <p:nvPr/>
        </p:nvSpPr>
        <p:spPr>
          <a:xfrm>
            <a:off x="839880" y="5805360"/>
            <a:ext cx="7772400" cy="93672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Arial"/>
              </a:rPr>
              <a:t>Comentarios hasta el 18-12-2014</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25000"/>
            <a:ext cx="822960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Arial"/>
                <a:ea typeface="Arial"/>
              </a:rPr>
              <a:t>Preguntas a responder</a:t>
            </a:r>
            <a:endParaRPr b="0" lang="en-US" sz="2800" spc="-1" strike="noStrike">
              <a:solidFill>
                <a:srgbClr val="006600"/>
              </a:solidFill>
              <a:latin typeface="Calibri"/>
            </a:endParaRPr>
          </a:p>
        </p:txBody>
      </p:sp>
      <p:sp>
        <p:nvSpPr>
          <p:cNvPr id="77"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DE1F-A78E-4E50-8458-E2B7A507567B}"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sp>
        <p:nvSpPr>
          <p:cNvPr id="7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
          <p:cNvGraphicFramePr/>
          <p:nvPr/>
        </p:nvGraphicFramePr>
        <p:xfrm>
          <a:off x="539640" y="1989000"/>
          <a:ext cx="7993080" cy="4343400"/>
        </p:xfrm>
        <a:graphic>
          <a:graphicData uri="http://schemas.openxmlformats.org/drawingml/2006/table">
            <a:tbl>
              <a:tblPr/>
              <a:tblGrid>
                <a:gridCol w="7993080"/>
              </a:tblGrid>
              <a:tr h="438480">
                <a:tc>
                  <a:txBody>
                    <a:bodyPr lIns="68760" rIns="68760" tIns="0" bIns="17640" anchor="b">
                      <a:noAutofit/>
                    </a:bodyPr>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regunta 4 — </a:t>
                      </a:r>
                      <a:r>
                        <a:rPr b="1" lang="es-CO" sz="2400" spc="-1" strike="noStrike">
                          <a:solidFill>
                            <a:srgbClr val="000000"/>
                          </a:solidFill>
                          <a:latin typeface="Arial"/>
                          <a:ea typeface="Times New Roman"/>
                        </a:rPr>
                        <a:t>Evaluación combinada o separada</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41520">
                <a:tc>
                  <a:txBody>
                    <a:bodyPr lIns="68760" rIns="68760" tIns="0" bIns="17640" anchor="b">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l IASB propone aclarar que una entidad evaluará si reconoce el efecto fiscal de una diferencia temporaria deducible como un activo por impuestos diferidos en combinación con otros activos por impuestos diferidos. Si la legislación fiscal restringe la utilización de pérdidas fiscales de forma que una entidad sólo pueda deducirlas contra ingresos de un tipo o tipos específicos (por ejemplo, si puede deducir pérdidas de capital sólo contra las ganancias de capital), la entidad debe evaluar un activo por impuestos diferidos en combinación con otros, pero sólo con los activos del tipo apropiado.</a:t>
                      </a: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r>
              <a:tr h="627840">
                <a:tc>
                  <a:txBody>
                    <a:bodyPr lIns="68760" rIns="68760" tIns="0" bIns="1764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stá de acuerdo con la modificación propuesta? ¿Por qué sí o por qué no?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8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1125000"/>
            <a:ext cx="8229600" cy="1140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Arial"/>
                <a:ea typeface="Arial"/>
              </a:rPr>
              <a:t>Preguntas a responder</a:t>
            </a:r>
            <a:endParaRPr b="0" lang="en-US" sz="2800" spc="-1" strike="noStrike">
              <a:solidFill>
                <a:srgbClr val="006600"/>
              </a:solidFill>
              <a:latin typeface="Calibri"/>
            </a:endParaRPr>
          </a:p>
        </p:txBody>
      </p:sp>
      <p:sp>
        <p:nvSpPr>
          <p:cNvPr id="82"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2C2D-3639-4595-A7B8-84AE55BD3F3A}"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sp>
        <p:nvSpPr>
          <p:cNvPr id="8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539640" y="2276640"/>
          <a:ext cx="7993080" cy="4032000"/>
        </p:xfrm>
        <a:graphic>
          <a:graphicData uri="http://schemas.openxmlformats.org/drawingml/2006/table">
            <a:tbl>
              <a:tblPr/>
              <a:tblGrid>
                <a:gridCol w="7993080"/>
              </a:tblGrid>
              <a:tr h="542880">
                <a:tc>
                  <a:txBody>
                    <a:bodyPr lIns="68760" rIns="68760" tIns="0" bIns="17640" anchor="b">
                      <a:noAutofit/>
                    </a:bodyPr>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Pregunta 5 — </a:t>
                      </a:r>
                      <a:r>
                        <a:rPr b="1" lang="es-CO" sz="2800" spc="-1" strike="noStrike">
                          <a:solidFill>
                            <a:srgbClr val="000000"/>
                          </a:solidFill>
                          <a:latin typeface="Arial"/>
                          <a:ea typeface="Times New Roman"/>
                        </a:rPr>
                        <a:t>Transición</a:t>
                      </a:r>
                      <a:endParaRPr b="0" lang="en-US" sz="2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81040">
                <a:tc>
                  <a:txBody>
                    <a:bodyPr lIns="68760" rIns="68760" tIns="0" bIns="17640" anchor="b">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l IASB propone limitar la aplicación retroactiva de las modificaciones propuestas para las entidades que ya aplican las NIIF. Esto es de forma que deban permitirse pero no requerirse las reexpresiones de las ganancias acumuladas iniciales u otros componentes del patrimonio del primer período comparativo presentado. La aplicación retroactiva total se requerirá para las entidades que adoptan por primera vez las NIIF.</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r>
              <a:tr h="1108080">
                <a:tc>
                  <a:txBody>
                    <a:bodyPr lIns="68760" rIns="68760" tIns="0" bIns="1764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stá de acuerdo con la modificación propuesta? ¿Por qué sí o por qué no?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8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Grupo Latinoamericano de Emisores de Normas de Información Financeira - GLENIF</a:t>
            </a:r>
            <a:endParaRPr b="0" lang="en-US" sz="1200" spc="-1" strike="noStrike">
              <a:solidFill>
                <a:srgbClr val="000000"/>
              </a:solidFill>
              <a:latin typeface="Arial"/>
            </a:endParaRPr>
          </a:p>
        </p:txBody>
      </p:sp>
      <p:pic>
        <p:nvPicPr>
          <p:cNvPr id="87" name="2 Imagen" descr="comentario.jpg"/>
          <p:cNvPicPr/>
          <p:nvPr/>
        </p:nvPicPr>
        <p:blipFill>
          <a:blip r:embed="rId1"/>
          <a:stretch/>
        </p:blipFill>
        <p:spPr>
          <a:xfrm>
            <a:off x="1258920" y="1325520"/>
            <a:ext cx="6408720" cy="4800600"/>
          </a:xfrm>
          <a:prstGeom prst="rect">
            <a:avLst/>
          </a:prstGeom>
          <a:ln w="0">
            <a:noFill/>
          </a:ln>
        </p:spPr>
      </p:pic>
      <p:sp>
        <p:nvSpPr>
          <p:cNvPr id="88" name="3 CuadroTexto"/>
          <p:cNvSpPr/>
          <p:nvPr/>
        </p:nvSpPr>
        <p:spPr>
          <a:xfrm>
            <a:off x="2916360" y="3141720"/>
            <a:ext cx="3816360" cy="22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6600"/>
                </a:solidFill>
                <a:latin typeface="Bradley Hand ITC"/>
              </a:rPr>
              <a:t>Gracias por participar...</a:t>
            </a:r>
            <a:endParaRPr b="0" lang="en-US" sz="26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6600"/>
                </a:solidFill>
                <a:latin typeface="Bradley Hand ITC"/>
              </a:rPr>
              <a:t>Su opinión es muy valiosa para América Latina.</a:t>
            </a:r>
            <a:endParaRPr b="0" lang="en-US" sz="2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425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6600"/>
                </a:solidFill>
                <a:latin typeface="Calibri"/>
              </a:rPr>
              <a:t>Norma tratada en el ED</a:t>
            </a:r>
            <a:endParaRPr b="0" lang="en-US" sz="4400" spc="-1" strike="noStrike">
              <a:solidFill>
                <a:srgbClr val="006600"/>
              </a:solidFill>
              <a:latin typeface="Calibri"/>
            </a:endParaRPr>
          </a:p>
        </p:txBody>
      </p:sp>
      <p:sp>
        <p:nvSpPr>
          <p:cNvPr id="48"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123C-4C6D-45B5-A28C-8ABDC832D792}"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graphicFrame>
        <p:nvGraphicFramePr>
          <p:cNvPr id="49" name=""/>
          <p:cNvGraphicFramePr/>
          <p:nvPr/>
        </p:nvGraphicFramePr>
        <p:xfrm>
          <a:off x="539640" y="3068640"/>
          <a:ext cx="8136000" cy="1436760"/>
        </p:xfrm>
        <a:graphic>
          <a:graphicData uri="http://schemas.openxmlformats.org/drawingml/2006/table">
            <a:tbl>
              <a:tblPr/>
              <a:tblGrid>
                <a:gridCol w="3743280"/>
                <a:gridCol w="4392720"/>
              </a:tblGrid>
              <a:tr h="504720">
                <a:tc>
                  <a:txBody>
                    <a:bodyPr lIns="68400" rIns="68400" tIns="0" bIns="17640" anchor="b">
                      <a:noAutofit/>
                    </a:bodyPr>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Norma</a:t>
                      </a:r>
                      <a:endParaRPr b="0" lang="en-US" sz="2400" spc="-1" strike="noStrike">
                        <a:solidFill>
                          <a:srgbClr val="000000"/>
                        </a:solidFill>
                        <a:latin typeface="Arial"/>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77933c"/>
                    </a:solidFill>
                  </a:tcPr>
                </a:tc>
                <a:tc>
                  <a:txBody>
                    <a:bodyPr lIns="68400" rIns="68400" tIns="0" bIns="17640" anchor="b">
                      <a:noAutofit/>
                    </a:bodyPr>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Sujeto de modificación</a:t>
                      </a:r>
                      <a:endParaRPr b="0" lang="en-US" sz="2400" spc="-1" strike="noStrike">
                        <a:solidFill>
                          <a:srgbClr val="000000"/>
                        </a:solidFill>
                        <a:latin typeface="Arial"/>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77933c"/>
                    </a:solidFill>
                  </a:tcPr>
                </a:tc>
              </a:tr>
              <a:tr h="932040">
                <a:tc>
                  <a:txBody>
                    <a:bodyPr lIns="68400" rIns="68400" tIns="0" bIns="1764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NIC 12 </a:t>
                      </a:r>
                      <a:r>
                        <a:rPr b="0" i="1" lang="es-ES" sz="2000" spc="-1" strike="noStrike">
                          <a:solidFill>
                            <a:srgbClr val="000000"/>
                          </a:solidFill>
                          <a:latin typeface="Arial"/>
                          <a:ea typeface="Times New Roman"/>
                        </a:rPr>
                        <a:t>Impuesto a las ganancias</a:t>
                      </a:r>
                      <a:endParaRPr b="0" lang="en-US" sz="2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1764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conocimiento de un activo por impuesto diferido que se relaciona con un instrumento de deuda medido a valor razonable</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1209600"/>
            <a:ext cx="8229600" cy="1139760"/>
          </a:xfrm>
          <a:prstGeom prst="rect">
            <a:avLst/>
          </a:prstGeom>
          <a:noFill/>
          <a:ln w="0">
            <a:noFill/>
          </a:ln>
        </p:spPr>
        <p:txBody>
          <a:bodyPr anchor="ctr">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ea typeface="Times New Roman"/>
              </a:rPr>
              <a:t>NIC 12 Impuesto a las ganancias</a:t>
            </a:r>
            <a:endParaRPr b="0" lang="en-US" sz="2400" spc="-1" strike="noStrike">
              <a:solidFill>
                <a:srgbClr val="006600"/>
              </a:solidFill>
              <a:latin typeface="Calibri"/>
            </a:endParaRPr>
          </a:p>
        </p:txBody>
      </p:sp>
      <p:sp>
        <p:nvSpPr>
          <p:cNvPr id="51"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1F1E-9DB8-4CF1-9378-2AB79EFF5831}"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2" name="3 CuadroTexto"/>
          <p:cNvSpPr/>
          <p:nvPr/>
        </p:nvSpPr>
        <p:spPr>
          <a:xfrm>
            <a:off x="179280" y="2398680"/>
            <a:ext cx="889344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Las modificaciones propuestas a la NIC 12 son en respuesta a una solicitud al Comité de Interpretaciones de las NIIF (el "Comité de Interpretaciones ') para aclarar el reconocimiento de un activo por impuesto diferido que se relaciona con un instrumento de deuda medido a valor razonable en circunstancias en las qu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a) Los cambios en la tasa de interés de mercado disminuyen el valor razonable del instrumento de deuda por debajo del cos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b) Es probable que el titular del instrumento de deuda reciba todos los flujos de efectivo contractuales si se conserva el instrumento de deuda hasta su vencimien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endParaRPr b="0" lang="en-US" sz="20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929C-842B-49AB-8C0C-6BAE2D0CA6FC}"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4" name="3 CuadroTexto"/>
          <p:cNvSpPr/>
          <p:nvPr/>
        </p:nvSpPr>
        <p:spPr>
          <a:xfrm>
            <a:off x="324000" y="2133720"/>
            <a:ext cx="8424720" cy="431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El titular del instrumento de deuda tiene la capacidad e intención de conservarlo hasta que la disminución de su valor razonable revierta (lo cual puede ser en su vencimiento).</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La base fiscal del instrumento de deuda se mantiene al costo hasta que se venda o venza. La base fiscal del instrumento de deuda no se reduce por una pérdida por deterioro de valor, porque no se cumplen los criterios para reconocer una pérdida por deterioro de valor por efectos fiscales. </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Las ganancias fiscales futuras probables del titular del instrumento de deuda son insuficientes para la utilización de todas sus diferencias temporarias deducibles.</a:t>
            </a:r>
            <a:r>
              <a:rPr b="0" lang="es-CO" sz="2000" spc="-1" strike="noStrike">
                <a:solidFill>
                  <a:srgbClr val="000000"/>
                </a:solidFill>
                <a:latin typeface="Arial"/>
              </a:rPr>
              <a:t> </a:t>
            </a:r>
            <a:endParaRPr b="0" lang="en-US" sz="2000" spc="-1" strike="noStrike">
              <a:solidFill>
                <a:srgbClr val="000000"/>
              </a:solidFill>
              <a:latin typeface="Arial"/>
            </a:endParaRPr>
          </a:p>
        </p:txBody>
      </p:sp>
      <p:sp>
        <p:nvSpPr>
          <p:cNvPr id="55" name="Rectangle 2"/>
          <p:cNvSpPr/>
          <p:nvPr/>
        </p:nvSpPr>
        <p:spPr>
          <a:xfrm>
            <a:off x="250920" y="1268280"/>
            <a:ext cx="8229600" cy="720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ea typeface="Times New Roman"/>
              </a:rPr>
              <a:t>NIC 12 Impuesto a las ganancias</a:t>
            </a:r>
            <a:endParaRPr b="0" lang="en-US" sz="2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AB9E-CEFA-484E-89C1-9A9C1BC8AF9D}"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sp>
        <p:nvSpPr>
          <p:cNvPr id="57" name="3 CuadroTexto"/>
          <p:cNvSpPr/>
          <p:nvPr/>
        </p:nvSpPr>
        <p:spPr>
          <a:xfrm>
            <a:off x="324000" y="2133720"/>
            <a:ext cx="8424720" cy="45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l IASB concluyó que la mejor manera de abordar este tema en la práctica es aclarar las preguntas (a) a (d) en las guías obligatorias de la NIC 12 y añadir un ejemplo ilustrativo que mostrara la aplicación del principio de la NIC 12 para la contabilización de los activos por impuestos diferidos por cambios en el valor en libros de los instrumentos de deuda medidos por su valor razonable con cambios en el ORI.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ara evitar los costos y esfuerzos desproporcionados, el IASB propone que la aplicación retroactiva de las modificaciones propuestas a la NIC 12 sea limitada. Tal como se propone, las reexpresiones de las ganancias acumuladas iniciales u otros componentes del patrimonio del primer período comparativo presentado deben permitirse, pero no requerirse.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Rectangle 2"/>
          <p:cNvSpPr/>
          <p:nvPr/>
        </p:nvSpPr>
        <p:spPr>
          <a:xfrm>
            <a:off x="250920" y="1268280"/>
            <a:ext cx="8229600" cy="720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ea typeface="Times New Roman"/>
              </a:rPr>
              <a:t>NIC 12 Impuesto a las ganancias</a:t>
            </a:r>
            <a:endParaRPr b="0" lang="en-US" sz="2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21EC-4DE9-4A6C-ACC2-3A0C0A5BFF70}"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sp>
        <p:nvSpPr>
          <p:cNvPr id="60" name="3 CuadroTexto"/>
          <p:cNvSpPr/>
          <p:nvPr/>
        </p:nvSpPr>
        <p:spPr>
          <a:xfrm>
            <a:off x="324000" y="2419200"/>
            <a:ext cx="84247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La aplicación retroactiva total se requerirá para las entidades que adoptan por primera vez las NIIF. Muchas entidades que adoptan por primera vez las NIIF tienen que determinar los importes acumulados de impuestos diferidos que se habrían reconocido en el resultado del periodo, otro resultado integral o directamente en patrimonio hasta la fecha de transición a las NIIF. La NIIF 1 Adopción por primera vez de las Normas Internacionales de Información Financiera no incluye una excepción o exención, a la aplicación retroactiva de este requerimiento general. En consecuencia, el IASB no está proponiendo una modificación a la NIIF 1.</a:t>
            </a:r>
            <a:endParaRPr b="0" lang="en-US" sz="2000" spc="-1" strike="noStrike">
              <a:solidFill>
                <a:srgbClr val="000000"/>
              </a:solidFill>
              <a:latin typeface="Arial"/>
            </a:endParaRPr>
          </a:p>
        </p:txBody>
      </p:sp>
      <p:sp>
        <p:nvSpPr>
          <p:cNvPr id="61" name="Rectangle 2"/>
          <p:cNvSpPr/>
          <p:nvPr/>
        </p:nvSpPr>
        <p:spPr>
          <a:xfrm>
            <a:off x="250920" y="1268280"/>
            <a:ext cx="8229600" cy="720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ea typeface="Times New Roman"/>
              </a:rPr>
              <a:t>NIC 12 Impuesto a las ganancias</a:t>
            </a:r>
            <a:endParaRPr b="0" lang="en-US" sz="2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125000"/>
            <a:ext cx="822960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Arial"/>
                <a:ea typeface="Arial"/>
              </a:rPr>
              <a:t>Preguntas a responder</a:t>
            </a:r>
            <a:endParaRPr b="0" lang="en-US" sz="2800" spc="-1" strike="noStrike">
              <a:solidFill>
                <a:srgbClr val="006600"/>
              </a:solidFill>
              <a:latin typeface="Calibri"/>
            </a:endParaRPr>
          </a:p>
        </p:txBody>
      </p:sp>
      <p:sp>
        <p:nvSpPr>
          <p:cNvPr id="63"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44D7-DD35-4944-B527-5382727006C2}"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graphicFrame>
        <p:nvGraphicFramePr>
          <p:cNvPr id="64" name=""/>
          <p:cNvGraphicFramePr/>
          <p:nvPr/>
        </p:nvGraphicFramePr>
        <p:xfrm>
          <a:off x="395280" y="1957320"/>
          <a:ext cx="8352000" cy="4689720"/>
        </p:xfrm>
        <a:graphic>
          <a:graphicData uri="http://schemas.openxmlformats.org/drawingml/2006/table">
            <a:tbl>
              <a:tblPr/>
              <a:tblGrid>
                <a:gridCol w="8352000"/>
              </a:tblGrid>
              <a:tr h="858960">
                <a:tc>
                  <a:txBody>
                    <a:bodyPr lIns="68400" rIns="68400" tIns="0" bIns="17640" anchor="b">
                      <a:noAutofit/>
                    </a:bodyPr>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regunta 1— </a:t>
                      </a:r>
                      <a:r>
                        <a:rPr b="1" lang="es-CO" sz="2400" spc="-1" strike="noStrike">
                          <a:solidFill>
                            <a:srgbClr val="000000"/>
                          </a:solidFill>
                          <a:latin typeface="Arial"/>
                          <a:ea typeface="Times New Roman"/>
                        </a:rPr>
                        <a:t>Existencia de una diferencia temporaria deducible</a:t>
                      </a:r>
                      <a:endParaRPr b="0" lang="en-US" sz="2400" spc="-1" strike="noStrike">
                        <a:solidFill>
                          <a:srgbClr val="000000"/>
                        </a:solidFill>
                        <a:latin typeface="Arial"/>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r>
              <a:tr h="2960280">
                <a:tc>
                  <a:txBody>
                    <a:bodyPr lIns="68400" rIns="68400" tIns="0" bIns="17640" anchor="b">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l IASB propone confirmar que las disminuciones en el valor en libros de un instrumento de deuda a tasa fija en el que se paga el principal al vencimiento da lugar a una diferencia temporaria deducible si este instrumento de deuda se mide a su valor razonable y si su base fiscal se mantiene al costo. Esto se aplica independientemente de si el titular del instrumento de deuda espera recuperar el valor en libros de dicho instrumento de deuda por la venta o por el uso, es decir, mediante su conservación hasta el vencimiento, o si es probable que el emisor pagará todos los flujos de efectivo contractuales.</a:t>
                      </a:r>
                      <a:endParaRPr b="0" lang="en-US" sz="2000" spc="-1" strike="noStrike">
                        <a:solidFill>
                          <a:srgbClr val="000000"/>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r>
              <a:tr h="870480">
                <a:tc>
                  <a:txBody>
                    <a:bodyPr lIns="68400" rIns="68400" tIns="0" bIns="17640" anchor="b">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stá de acuerdo con la modificación propuesta? ¿Por qué sí o por qué no? </a:t>
                      </a:r>
                      <a:endParaRPr b="0" lang="en-US" sz="2000" spc="-1" strike="noStrike">
                        <a:solidFill>
                          <a:srgbClr val="000000"/>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r>
            </a:tbl>
          </a:graphicData>
        </a:graphic>
      </p:graphicFrame>
      <p:sp>
        <p:nvSpPr>
          <p:cNvPr id="6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1125000"/>
            <a:ext cx="8229600" cy="1140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Arial"/>
                <a:ea typeface="Arial"/>
              </a:rPr>
              <a:t>Preguntas a responder</a:t>
            </a:r>
            <a:endParaRPr b="0" lang="en-US" sz="2800" spc="-1" strike="noStrike">
              <a:solidFill>
                <a:srgbClr val="006600"/>
              </a:solidFill>
              <a:latin typeface="Calibri"/>
            </a:endParaRPr>
          </a:p>
        </p:txBody>
      </p:sp>
      <p:sp>
        <p:nvSpPr>
          <p:cNvPr id="67"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AB53-8943-4BD3-8D5A-507A2595DDD2}"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sp>
        <p:nvSpPr>
          <p:cNvPr id="6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 name=""/>
          <p:cNvGraphicFramePr/>
          <p:nvPr/>
        </p:nvGraphicFramePr>
        <p:xfrm>
          <a:off x="539640" y="2276640"/>
          <a:ext cx="7993080" cy="2906640"/>
        </p:xfrm>
        <a:graphic>
          <a:graphicData uri="http://schemas.openxmlformats.org/drawingml/2006/table">
            <a:tbl>
              <a:tblPr/>
              <a:tblGrid>
                <a:gridCol w="7993080"/>
              </a:tblGrid>
              <a:tr h="858960">
                <a:tc>
                  <a:txBody>
                    <a:bodyPr lIns="68760" rIns="68760" tIns="0" bIns="17640" anchor="b">
                      <a:noAutofit/>
                    </a:bodyPr>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regunta 2— </a:t>
                      </a:r>
                      <a:r>
                        <a:rPr b="1" lang="es-CO" sz="2400" spc="-1" strike="noStrike">
                          <a:solidFill>
                            <a:srgbClr val="000000"/>
                          </a:solidFill>
                          <a:latin typeface="Arial"/>
                          <a:ea typeface="Times New Roman"/>
                        </a:rPr>
                        <a:t>Recuperación de un activo por más de su valor en libros</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359360">
                <a:tc>
                  <a:txBody>
                    <a:bodyPr lIns="68760" rIns="68760" tIns="0" bIns="1764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l IASB propone aclarar la medida en que la estimación de una entidad de la ganancia fiscal futura (párrafo 29) incluye los montos de activos que se recuperan por más de su valor en libr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r>
              <a:tr h="688320">
                <a:tc>
                  <a:txBody>
                    <a:bodyPr lIns="68760" rIns="68760" tIns="0" bIns="1764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stá de acuerdo con la modificación propuesta? ¿Por qué sí o por qué no?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7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125000"/>
            <a:ext cx="8229600" cy="1140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Arial"/>
                <a:ea typeface="Arial"/>
              </a:rPr>
              <a:t>Preguntas a responder</a:t>
            </a:r>
            <a:endParaRPr b="0" lang="en-US" sz="2800" spc="-1" strike="noStrike">
              <a:solidFill>
                <a:srgbClr val="006600"/>
              </a:solidFill>
              <a:latin typeface="Calibri"/>
            </a:endParaRPr>
          </a:p>
        </p:txBody>
      </p:sp>
      <p:sp>
        <p:nvSpPr>
          <p:cNvPr id="72" name="5 Marcador de número de diapositiva"/>
          <p:cNvSpPr/>
          <p:nvPr/>
        </p:nvSpPr>
        <p:spPr>
          <a:xfrm>
            <a:off x="8101080" y="6237360"/>
            <a:ext cx="8636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1DA7-3219-49E0-9479-D49D01C4C75C}" type="slidenum">
              <a:rPr b="1" lang="es-ES" sz="1400" spc="-1" strike="noStrike">
                <a:solidFill>
                  <a:srgbClr val="000000"/>
                </a:solidFill>
                <a:latin typeface="Verdana"/>
              </a:rPr>
              <a:t>&lt;number&gt;</a:t>
            </a:fld>
            <a:endParaRPr b="0" lang="en-US" sz="1400" spc="-1" strike="noStrike">
              <a:solidFill>
                <a:srgbClr val="000000"/>
              </a:solidFill>
              <a:latin typeface="Arial"/>
            </a:endParaRPr>
          </a:p>
        </p:txBody>
      </p:sp>
      <p:sp>
        <p:nvSpPr>
          <p:cNvPr id="7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 name=""/>
          <p:cNvGraphicFramePr/>
          <p:nvPr/>
        </p:nvGraphicFramePr>
        <p:xfrm>
          <a:off x="539640" y="2276640"/>
          <a:ext cx="7993080" cy="3479760"/>
        </p:xfrm>
        <a:graphic>
          <a:graphicData uri="http://schemas.openxmlformats.org/drawingml/2006/table">
            <a:tbl>
              <a:tblPr/>
              <a:tblGrid>
                <a:gridCol w="7993080"/>
              </a:tblGrid>
              <a:tr h="1279440">
                <a:tc>
                  <a:txBody>
                    <a:bodyPr lIns="68760" rIns="68760" tIns="0" bIns="17640" anchor="b">
                      <a:noAutofit/>
                    </a:bodyPr>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regunta 3 -  </a:t>
                      </a:r>
                      <a:r>
                        <a:rPr b="1" lang="es-CO" sz="2400" spc="-1" strike="noStrike">
                          <a:solidFill>
                            <a:srgbClr val="000000"/>
                          </a:solidFill>
                          <a:latin typeface="Arial"/>
                          <a:ea typeface="Times New Roman"/>
                        </a:rPr>
                        <a:t>Probables ganancias fiscales futuras contra las que se evalúan las diferencias temporarias deducibles para uso</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64280">
                <a:tc>
                  <a:txBody>
                    <a:bodyPr lIns="68760" rIns="68760" tIns="0" bIns="17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l IASB propone aclarar que la estimación de una entidad de las ganancias fiscales futuras (párrafo 29) excluyen las deducciones fiscales procedentes de la reversión de las diferencias temporarias deducib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r>
              <a:tr h="627840">
                <a:tc>
                  <a:txBody>
                    <a:bodyPr lIns="68760" rIns="68760" tIns="0" bIns="1764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stá de acuerdo con la modificación propuesta? ¿Por qué sí o por qué no?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7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5T12:27:58Z</dcterms:created>
  <dc:creator>michelle.rocha</dc:creator>
  <dc:description/>
  <dc:language>en-US</dc:language>
  <cp:lastModifiedBy>gsuarez</cp:lastModifiedBy>
  <cp:lastPrinted>2013-06-11T21:46:01Z</cp:lastPrinted>
  <dcterms:modified xsi:type="dcterms:W3CDTF">2014-09-24T15:05:20Z</dcterms:modified>
  <cp:revision>412</cp:revision>
  <dc:subject/>
  <dc:title>Slide 1</dc:title>
</cp:coreProperties>
</file>